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31.gif" ContentType="image/gif"/>
  <Override PartName="/ppt/media/image23.png" ContentType="image/png"/>
  <Override PartName="/ppt/media/image30.gif" ContentType="image/gif"/>
  <Override PartName="/ppt/media/image22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.jpeg" ContentType="image/jpeg"/>
  <Override PartName="/ppt/media/image12.png" ContentType="image/png"/>
  <Override PartName="/ppt/media/image28.gif" ContentType="image/gif"/>
  <Override PartName="/ppt/media/image14.jpeg" ContentType="image/jpeg"/>
  <Override PartName="/ppt/media/image8.png" ContentType="image/png"/>
  <Override PartName="/ppt/media/image13.png" ContentType="image/png"/>
  <Override PartName="/ppt/media/image9.png" ContentType="image/png"/>
  <Override PartName="/ppt/media/image5.png" ContentType="image/png"/>
  <Override PartName="/ppt/media/image10.jpeg" ContentType="image/jpeg"/>
  <Override PartName="/ppt/media/image27.png" ContentType="image/png"/>
  <Override PartName="/ppt/media/image34.gif" ContentType="image/gif"/>
  <Override PartName="/ppt/media/image3.png" ContentType="image/png"/>
  <Override PartName="/ppt/media/image26.png" ContentType="image/png"/>
  <Override PartName="/ppt/media/image33.gif" ContentType="image/gif"/>
  <Override PartName="/ppt/media/image32.png" ContentType="image/png"/>
  <Override PartName="/ppt/media/image2.png" ContentType="image/png"/>
  <Override PartName="/ppt/media/image25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9.png" ContentType="image/png"/>
  <Override PartName="/ppt/media/image2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0AB1-5FF4-488F-A0C9-BF5EF1407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D0FF-ADFE-49B5-87E5-3DD245912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6F04-8C69-47F7-B9D7-5AF81FE6B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F0F5-295A-4477-9F46-A666192AD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24960-72B2-45E6-B348-034C06F12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9489C-12BB-4353-A990-52406DB9D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5F6A1-E6A8-4E73-A0F2-71107E42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3FC44-6DFA-43DA-B9A4-6C61C9F0E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A9873-E704-4F88-B6B0-5E2B478AE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BB2F9-97C6-4BEB-86A7-14A2B5D1B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DDCB6-48F8-49F7-8D2A-B3838600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804E-2E4C-4B5D-84A6-06CA6B9C0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10772-61C5-4610-8560-909D3792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EB50E-8342-458D-B900-D36BE034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80958-68CC-42BE-B646-3A2205416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00BEA-82DE-4B4E-ADF3-061056B40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B6133-EF5D-46BE-919B-5C21BE8AD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9495B-F1B9-486A-AC58-F58C6CD6E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65864-8448-4947-B4BF-E6D82EA46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1C028-D315-4AB7-8698-9A401F29D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EA12D-17A3-4CBD-B99F-BAFAB80F7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F7267-1173-4C07-9370-FC95CA6B8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65AD-592E-45FF-B547-C7CF4B445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E49AE-0D35-4653-AE10-D23F47FDF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26795-E3D7-4740-98ED-50423A51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97491-A0A3-494E-9007-26EEFFEB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736DF-9D12-48CD-AD6A-A17A3F07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8C182-8274-4DD2-B496-7BCDE100F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18385-A839-4286-A4B5-9F259B7DA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77466-6930-496F-8638-3E6452580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92126-559B-4050-83D4-68320876D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E98DC-01BE-4D22-830A-72A618461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46EC1-0BD6-46E7-A6FC-55B0A7C68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D4B3-8321-4DF7-860E-566266FEC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0C75A-BF4C-41F1-AE10-C27BB1394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11DEF-9510-463D-9C7D-D13C6EFAF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E62E4-85BB-4B8C-BCCE-828DABA6A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FF6C5-8BEB-442E-B1FD-AAA86D16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930DB-8751-4660-B236-0D1286846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7558A-F285-4C5B-94B9-0EC451CD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1CAAF-3A49-4C33-A395-A83D2E47E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6C8FA-4FC7-4ADC-956B-ED2015485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06508-6099-4D5B-B61E-86F7F8A8C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0BBE-F011-4876-9822-585AF6DD2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D146-70D5-480E-B2FD-CCCBAF943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782F-1476-475E-847E-2EFE7861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4261-A8C5-4E21-B834-E786D2E8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A458-28A3-4BE0-AB1E-23314DBE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1B333-CDB9-4061-A1B4-B6CBB74C35FF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4FD0D-207E-49E1-8AA7-EB9844575867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F5DA2-9766-49A3-91C4-0F91E9662418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3A924-BB88-4878-8CD1-A9A8C8F5A1A0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3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" Target="slide2.xml"/><Relationship Id="rId3" Type="http://schemas.openxmlformats.org/officeDocument/2006/relationships/image" Target="../media/image13.png"/><Relationship Id="rId4" Type="http://schemas.openxmlformats.org/officeDocument/2006/relationships/image" Target="../media/image29.png"/><Relationship Id="rId5" Type="http://schemas.openxmlformats.org/officeDocument/2006/relationships/image" Target="../media/image30.gi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3.png"/><Relationship Id="rId3" Type="http://schemas.openxmlformats.org/officeDocument/2006/relationships/image" Target="../media/image31.gif"/><Relationship Id="rId4" Type="http://schemas.openxmlformats.org/officeDocument/2006/relationships/image" Target="../media/image31.gif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13" descr="f398b295261c"/>
          <p:cNvPicPr/>
          <p:nvPr/>
        </p:nvPicPr>
        <p:blipFill>
          <a:blip r:embed="rId2"/>
          <a:stretch/>
        </p:blipFill>
        <p:spPr>
          <a:xfrm>
            <a:off x="5651640" y="4005360"/>
            <a:ext cx="2735280" cy="2066760"/>
          </a:xfrm>
          <a:prstGeom prst="rect">
            <a:avLst/>
          </a:prstGeom>
          <a:ln w="0">
            <a:noFill/>
          </a:ln>
        </p:spPr>
      </p:pic>
      <p:pic>
        <p:nvPicPr>
          <p:cNvPr id="215" name="Прямоугольник 2" descr=""/>
          <p:cNvPicPr/>
          <p:nvPr/>
        </p:nvPicPr>
        <p:blipFill>
          <a:blip r:embed="rId3"/>
          <a:stretch/>
        </p:blipFill>
        <p:spPr>
          <a:xfrm>
            <a:off x="792000" y="1792440"/>
            <a:ext cx="6851880" cy="23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4"/>
          <p:cNvSpPr/>
          <p:nvPr/>
        </p:nvSpPr>
        <p:spPr>
          <a:xfrm>
            <a:off x="1835640" y="979920"/>
            <a:ext cx="56030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 компьютеры пор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оворят между с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о для этого од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м штуковина нуж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 телефону подключил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ообщение получ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ещь, известная не все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азывается 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6476040" y="5184720"/>
            <a:ext cx="16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 О Д Е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4"/>
          <p:cNvSpPr/>
          <p:nvPr/>
        </p:nvSpPr>
        <p:spPr>
          <a:xfrm>
            <a:off x="1403280" y="1267200"/>
            <a:ext cx="66362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ля чего же этот ящи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н в себя бумагу тащ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 сейчас же буквы, точ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апятые - строчка к строчке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апечатает картин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Ловкий маст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труйный 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6554520" y="5362560"/>
            <a:ext cx="188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 Р И Н Т Е 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4" descr="11b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675640" y="638172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" descr=""/>
          <p:cNvPicPr/>
          <p:nvPr/>
        </p:nvPicPr>
        <p:blipFill>
          <a:blip r:embed="rId3"/>
          <a:srcRect l="2903" t="27244" r="6249" b="20097"/>
          <a:stretch/>
        </p:blipFill>
        <p:spPr>
          <a:xfrm>
            <a:off x="1116000" y="333360"/>
            <a:ext cx="6715080" cy="20718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" descr=""/>
          <p:cNvPicPr/>
          <p:nvPr/>
        </p:nvPicPr>
        <p:blipFill>
          <a:blip r:embed="rId4"/>
          <a:srcRect l="4721" t="18081" r="4721" b="10106"/>
          <a:stretch/>
        </p:blipFill>
        <p:spPr>
          <a:xfrm>
            <a:off x="3348000" y="2205000"/>
            <a:ext cx="2286000" cy="19288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" descr=""/>
          <p:cNvPicPr/>
          <p:nvPr/>
        </p:nvPicPr>
        <p:blipFill>
          <a:blip r:embed="rId5"/>
          <a:srcRect l="5781" t="27807" r="4932" b="30971"/>
          <a:stretch/>
        </p:blipFill>
        <p:spPr>
          <a:xfrm>
            <a:off x="611280" y="4005360"/>
            <a:ext cx="7789680" cy="1928880"/>
          </a:xfrm>
          <a:prstGeom prst="rect">
            <a:avLst/>
          </a:prstGeom>
          <a:ln w="0">
            <a:noFill/>
          </a:ln>
        </p:spPr>
      </p:pic>
      <p:pic>
        <p:nvPicPr>
          <p:cNvPr id="261" name="pesnya_kapitanov_kvn_-_(minus).mp3" descr=""/>
          <p:cNvPicPr/>
          <p:nvPr/>
        </p:nvPicPr>
        <p:blipFill>
          <a:blip r:embed="rId6"/>
          <a:stretch/>
        </p:blipFill>
        <p:spPr>
          <a:xfrm>
            <a:off x="657360" y="2940120"/>
            <a:ext cx="48708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9" dur="1" fill="hold"/>
                                        <p:tgtEl>
                                          <p:spTgt spid="2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89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Rectangle 2" descr=""/>
          <p:cNvPicPr/>
          <p:nvPr/>
        </p:nvPicPr>
        <p:blipFill>
          <a:blip r:embed="rId1"/>
          <a:stretch/>
        </p:blipFill>
        <p:spPr>
          <a:xfrm>
            <a:off x="0" y="-73080"/>
            <a:ext cx="8558280" cy="1755720"/>
          </a:xfrm>
          <a:prstGeom prst="rect">
            <a:avLst/>
          </a:prstGeom>
          <a:ln w="0">
            <a:noFill/>
          </a:ln>
        </p:spPr>
      </p:pic>
      <p:pic>
        <p:nvPicPr>
          <p:cNvPr id="263" name="Рисунок 1" descr="Описание: Кроссворд «Персональный компьютер»"/>
          <p:cNvPicPr/>
          <p:nvPr/>
        </p:nvPicPr>
        <p:blipFill>
          <a:blip r:embed="rId2"/>
          <a:stretch/>
        </p:blipFill>
        <p:spPr>
          <a:xfrm>
            <a:off x="1908000" y="1582560"/>
            <a:ext cx="568836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оугольник 10"/>
          <p:cNvSpPr/>
          <p:nvPr/>
        </p:nvSpPr>
        <p:spPr>
          <a:xfrm>
            <a:off x="6443640" y="1557360"/>
            <a:ext cx="432000" cy="431640"/>
          </a:xfrm>
          <a:prstGeom prst="rect">
            <a:avLst/>
          </a:prstGeom>
          <a:solidFill>
            <a:srgbClr val="ffffff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WordArt 4"/>
          <p:cNvSpPr txBox="1"/>
          <p:nvPr/>
        </p:nvSpPr>
        <p:spPr>
          <a:xfrm>
            <a:off x="611280" y="549360"/>
            <a:ext cx="79214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онкурс «Мудрецов»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66" name="Рисунок 22" descr="G:\Для конкурса\Ребусы\дисплей.png"/>
          <p:cNvPicPr/>
          <p:nvPr/>
        </p:nvPicPr>
        <p:blipFill>
          <a:blip r:embed="rId1"/>
          <a:stretch/>
        </p:blipFill>
        <p:spPr>
          <a:xfrm>
            <a:off x="250920" y="1916280"/>
            <a:ext cx="2498760" cy="1442880"/>
          </a:xfrm>
          <a:prstGeom prst="rect">
            <a:avLst/>
          </a:prstGeom>
          <a:ln w="0">
            <a:noFill/>
          </a:ln>
        </p:spPr>
      </p:pic>
      <p:pic>
        <p:nvPicPr>
          <p:cNvPr id="267" name="Рисунок 25" descr="G:\Для конкурса\Ребусы\компьютер.png"/>
          <p:cNvPicPr/>
          <p:nvPr/>
        </p:nvPicPr>
        <p:blipFill>
          <a:blip r:embed="rId2"/>
          <a:stretch/>
        </p:blipFill>
        <p:spPr>
          <a:xfrm>
            <a:off x="3203640" y="1916280"/>
            <a:ext cx="2539800" cy="1442880"/>
          </a:xfrm>
          <a:prstGeom prst="rect">
            <a:avLst/>
          </a:prstGeom>
          <a:ln w="0">
            <a:noFill/>
          </a:ln>
        </p:spPr>
      </p:pic>
      <p:pic>
        <p:nvPicPr>
          <p:cNvPr id="268" name="Рисунок 24" descr="G:\Для конкурса\Ребусы\передача.png"/>
          <p:cNvPicPr/>
          <p:nvPr/>
        </p:nvPicPr>
        <p:blipFill>
          <a:blip r:embed="rId3"/>
          <a:stretch/>
        </p:blipFill>
        <p:spPr>
          <a:xfrm>
            <a:off x="6227640" y="1916280"/>
            <a:ext cx="2468520" cy="1442880"/>
          </a:xfrm>
          <a:prstGeom prst="rect">
            <a:avLst/>
          </a:prstGeom>
          <a:ln w="0">
            <a:noFill/>
          </a:ln>
        </p:spPr>
      </p:pic>
      <p:pic>
        <p:nvPicPr>
          <p:cNvPr id="269" name="Рисунок 27" descr="G:\Для конкурса\Ребусы\курсор.png"/>
          <p:cNvPicPr/>
          <p:nvPr/>
        </p:nvPicPr>
        <p:blipFill>
          <a:blip r:embed="rId4"/>
          <a:stretch/>
        </p:blipFill>
        <p:spPr>
          <a:xfrm>
            <a:off x="306360" y="3860640"/>
            <a:ext cx="2519280" cy="1443240"/>
          </a:xfrm>
          <a:prstGeom prst="rect">
            <a:avLst/>
          </a:prstGeom>
          <a:ln w="0">
            <a:noFill/>
          </a:ln>
        </p:spPr>
      </p:pic>
      <p:pic>
        <p:nvPicPr>
          <p:cNvPr id="270" name="Рисунок 28" descr="G:\Для конкурса\Ребусы\память.png"/>
          <p:cNvPicPr/>
          <p:nvPr/>
        </p:nvPicPr>
        <p:blipFill>
          <a:blip r:embed="rId5"/>
          <a:stretch/>
        </p:blipFill>
        <p:spPr>
          <a:xfrm>
            <a:off x="3203640" y="3860640"/>
            <a:ext cx="2468520" cy="14432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8" descr="клавиша"/>
          <p:cNvPicPr/>
          <p:nvPr/>
        </p:nvPicPr>
        <p:blipFill>
          <a:blip r:embed="rId6"/>
          <a:stretch/>
        </p:blipFill>
        <p:spPr>
          <a:xfrm>
            <a:off x="6227640" y="3870360"/>
            <a:ext cx="2629080" cy="1380960"/>
          </a:xfrm>
          <a:prstGeom prst="rect">
            <a:avLst/>
          </a:prstGeom>
          <a:ln w="0">
            <a:noFill/>
          </a:ln>
        </p:spPr>
      </p:pic>
      <p:sp>
        <p:nvSpPr>
          <p:cNvPr id="272" name="Прямоугольник 11"/>
          <p:cNvSpPr/>
          <p:nvPr/>
        </p:nvSpPr>
        <p:spPr>
          <a:xfrm>
            <a:off x="468360" y="3429000"/>
            <a:ext cx="431640" cy="431640"/>
          </a:xfrm>
          <a:prstGeom prst="rect">
            <a:avLst/>
          </a:prstGeom>
          <a:solidFill>
            <a:srgbClr val="ffffff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12"/>
          <p:cNvSpPr/>
          <p:nvPr/>
        </p:nvSpPr>
        <p:spPr>
          <a:xfrm>
            <a:off x="3492360" y="3429000"/>
            <a:ext cx="432000" cy="431640"/>
          </a:xfrm>
          <a:prstGeom prst="rect">
            <a:avLst/>
          </a:prstGeom>
          <a:solidFill>
            <a:srgbClr val="ffffff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13"/>
          <p:cNvSpPr/>
          <p:nvPr/>
        </p:nvSpPr>
        <p:spPr>
          <a:xfrm>
            <a:off x="6443640" y="3500280"/>
            <a:ext cx="432000" cy="433440"/>
          </a:xfrm>
          <a:prstGeom prst="rect">
            <a:avLst/>
          </a:prstGeom>
          <a:solidFill>
            <a:srgbClr val="ffffff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14"/>
          <p:cNvSpPr/>
          <p:nvPr/>
        </p:nvSpPr>
        <p:spPr>
          <a:xfrm>
            <a:off x="324000" y="1557360"/>
            <a:ext cx="431640" cy="431640"/>
          </a:xfrm>
          <a:prstGeom prst="rect">
            <a:avLst/>
          </a:prstGeom>
          <a:solidFill>
            <a:srgbClr val="ffffff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17"/>
          <p:cNvSpPr/>
          <p:nvPr/>
        </p:nvSpPr>
        <p:spPr>
          <a:xfrm>
            <a:off x="3492360" y="1557360"/>
            <a:ext cx="432000" cy="431640"/>
          </a:xfrm>
          <a:prstGeom prst="rect">
            <a:avLst/>
          </a:prstGeom>
          <a:solidFill>
            <a:srgbClr val="ffffff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WordArt 4"/>
          <p:cNvSpPr txBox="1"/>
          <p:nvPr/>
        </p:nvSpPr>
        <p:spPr>
          <a:xfrm>
            <a:off x="1258920" y="2133720"/>
            <a:ext cx="6697800" cy="143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0926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_CityNovaTitulRgLt"/>
              </a:rPr>
              <a:t>Конкурс "Следы над бездной"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_CityNovaTitulRgLt"/>
              <a:ea typeface="a_CityNovaTitulRgLt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79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ctr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9" name="Rectangle 8"/>
          <p:cNvSpPr/>
          <p:nvPr/>
        </p:nvSpPr>
        <p:spPr>
          <a:xfrm>
            <a:off x="1692360" y="400536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 конкурс  - 1 бал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9" descr="147"/>
          <p:cNvPicPr/>
          <p:nvPr/>
        </p:nvPicPr>
        <p:blipFill>
          <a:blip r:embed="rId1"/>
          <a:stretch/>
        </p:blipFill>
        <p:spPr>
          <a:xfrm>
            <a:off x="6732720" y="4869000"/>
            <a:ext cx="1295280" cy="9586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0" descr="11b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75640" y="638172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4" descr="bokor24"/>
          <p:cNvPicPr/>
          <p:nvPr/>
        </p:nvPicPr>
        <p:blipFill>
          <a:blip r:embed="rId4"/>
          <a:stretch/>
        </p:blipFill>
        <p:spPr>
          <a:xfrm>
            <a:off x="250920" y="981000"/>
            <a:ext cx="1046160" cy="11606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6" descr="mysh108"/>
          <p:cNvPicPr/>
          <p:nvPr/>
        </p:nvPicPr>
        <p:blipFill>
          <a:blip r:embed="rId5"/>
          <a:stretch/>
        </p:blipFill>
        <p:spPr>
          <a:xfrm>
            <a:off x="4264200" y="5084640"/>
            <a:ext cx="126036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WordArt 4"/>
          <p:cNvSpPr txBox="1"/>
          <p:nvPr/>
        </p:nvSpPr>
        <p:spPr>
          <a:xfrm>
            <a:off x="611280" y="549360"/>
            <a:ext cx="6121440" cy="14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1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Mistral"/>
              </a:rPr>
              <a:t> 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Mistral"/>
              <a:ea typeface="Mistr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Mistral"/>
              </a:rPr>
              <a:t>Конкурс "Комплимент"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Mistral"/>
              <a:ea typeface="Mistral"/>
            </a:endParaRPr>
          </a:p>
        </p:txBody>
      </p:sp>
      <p:pic>
        <p:nvPicPr>
          <p:cNvPr id="285" name="Picture 5" descr="11b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675640" y="6381720"/>
            <a:ext cx="285840" cy="28584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 txBox="1"/>
          <p:nvPr/>
        </p:nvSpPr>
        <p:spPr>
          <a:xfrm>
            <a:off x="358560" y="907920"/>
            <a:ext cx="878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 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Команда за отведенное время должна </a:t>
            </a:r>
            <a:r>
              <a:rPr b="0" lang="ru-RU" sz="2800" spc="-1" strike="noStrike">
                <a:solidFill>
                  <a:srgbClr val="cc0099"/>
                </a:solidFill>
                <a:latin typeface="Times New Roman"/>
              </a:rPr>
              <a:t>придумать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речь, состоящую из </a:t>
            </a:r>
            <a:r>
              <a:rPr b="0" lang="ru-RU" sz="2800" spc="-1" strike="noStrike">
                <a:solidFill>
                  <a:srgbClr val="cc0099"/>
                </a:solidFill>
                <a:latin typeface="Times New Roman"/>
              </a:rPr>
              <a:t>самых изысканных комплиментов в адрес жюри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 от юных любителей информатики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Например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2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2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аши глаза светятся, как самые дорогие жидкокристаллические мониторы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87" name="Picture 15" descr="01"/>
          <p:cNvPicPr/>
          <p:nvPr/>
        </p:nvPicPr>
        <p:blipFill>
          <a:blip r:embed="rId3"/>
          <a:stretch/>
        </p:blipFill>
        <p:spPr>
          <a:xfrm>
            <a:off x="3059280" y="2492280"/>
            <a:ext cx="1066680" cy="9334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6" descr="01"/>
          <p:cNvPicPr/>
          <p:nvPr/>
        </p:nvPicPr>
        <p:blipFill>
          <a:blip r:embed="rId4"/>
          <a:stretch/>
        </p:blipFill>
        <p:spPr>
          <a:xfrm>
            <a:off x="3924360" y="2492280"/>
            <a:ext cx="1066680" cy="9334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7" descr="948cb13e7059"/>
          <p:cNvPicPr/>
          <p:nvPr/>
        </p:nvPicPr>
        <p:blipFill>
          <a:blip r:embed="rId5"/>
          <a:stretch/>
        </p:blipFill>
        <p:spPr>
          <a:xfrm>
            <a:off x="5364000" y="3933720"/>
            <a:ext cx="360684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WordArt 4"/>
          <p:cNvSpPr txBox="1"/>
          <p:nvPr/>
        </p:nvSpPr>
        <p:spPr>
          <a:xfrm>
            <a:off x="1652760" y="1268280"/>
            <a:ext cx="6303960" cy="396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СПАСИБО 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ЗА АКТИВНОЕ УЧАСТИЕ!!!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pic>
        <p:nvPicPr>
          <p:cNvPr id="291" name="Picture 5" descr="54226686_spasibobozhya_korovka"/>
          <p:cNvPicPr/>
          <p:nvPr/>
        </p:nvPicPr>
        <p:blipFill>
          <a:blip r:embed="rId1"/>
          <a:stretch/>
        </p:blipFill>
        <p:spPr>
          <a:xfrm rot="20488800">
            <a:off x="-21960" y="844560"/>
            <a:ext cx="3708360" cy="142884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6" descr="83422585"/>
          <p:cNvPicPr/>
          <p:nvPr/>
        </p:nvPicPr>
        <p:blipFill>
          <a:blip r:embed="rId2"/>
          <a:stretch/>
        </p:blipFill>
        <p:spPr>
          <a:xfrm>
            <a:off x="6588000" y="836640"/>
            <a:ext cx="18734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WordArt 4"/>
          <p:cNvSpPr txBox="1"/>
          <p:nvPr/>
        </p:nvSpPr>
        <p:spPr>
          <a:xfrm>
            <a:off x="468360" y="549360"/>
            <a:ext cx="7777080" cy="143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0926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latin typeface="a_CampusCmCorner"/>
              </a:rPr>
              <a:t>Конкурс «Лингвист"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99"/>
              </a:solidFill>
              <a:latin typeface="a_CampusCmCorner"/>
              <a:ea typeface="a_CampusCmCorner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1523880" y="1397160"/>
          <a:ext cx="6096240" cy="41148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205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endParaRPr b="0" lang="en-US" sz="1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9b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</a:t>
                      </a:r>
                      <a:endParaRPr b="0" lang="en-US" sz="1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9b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я</a:t>
                      </a:r>
                      <a:endParaRPr b="0" lang="en-US" sz="1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9b9ff"/>
                    </a:solidFill>
                  </a:tcPr>
                </a:tc>
              </a:tr>
              <a:tr h="205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</a:t>
                      </a:r>
                      <a:endParaRPr b="0" lang="en-US" sz="1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9b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ь</a:t>
                      </a:r>
                      <a:endParaRPr b="0" lang="en-US" sz="1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9b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</a:t>
                      </a:r>
                      <a:endParaRPr b="0" lang="en-US" sz="1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9b9ff"/>
                    </a:solidFill>
                  </a:tcPr>
                </a:tc>
              </a:tr>
            </a:tbl>
          </a:graphicData>
        </a:graphic>
      </p:graphicFrame>
      <p:sp>
        <p:nvSpPr>
          <p:cNvPr id="218" name="Text Box 32"/>
          <p:cNvSpPr/>
          <p:nvPr/>
        </p:nvSpPr>
        <p:spPr>
          <a:xfrm>
            <a:off x="5364000" y="5877000"/>
            <a:ext cx="32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амя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476360" y="1413000"/>
          <a:ext cx="6095880" cy="411480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205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endParaRPr b="0" lang="en-US" sz="1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9b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</a:t>
                      </a:r>
                      <a:endParaRPr b="0" lang="en-US" sz="1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9b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</a:t>
                      </a:r>
                      <a:endParaRPr b="0" lang="en-US" sz="1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9b9ff"/>
                    </a:solidFill>
                  </a:tcPr>
                </a:tc>
              </a:tr>
              <a:tr h="205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к</a:t>
                      </a:r>
                      <a:endParaRPr b="0" lang="en-US" sz="1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9b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</a:t>
                      </a:r>
                      <a:endParaRPr b="0" lang="en-US" sz="1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9b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к</a:t>
                      </a:r>
                      <a:endParaRPr b="0" lang="en-US" sz="1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9b9ff"/>
                    </a:solidFill>
                  </a:tcPr>
                </a:tc>
              </a:tr>
            </a:tbl>
          </a:graphicData>
        </a:graphic>
      </p:graphicFrame>
      <p:sp>
        <p:nvSpPr>
          <p:cNvPr id="220" name="Text Box 61"/>
          <p:cNvSpPr/>
          <p:nvPr/>
        </p:nvSpPr>
        <p:spPr>
          <a:xfrm>
            <a:off x="5316480" y="589284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Кноп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547640" y="1413000"/>
          <a:ext cx="6096240" cy="41148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205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</a:t>
                      </a:r>
                      <a:endParaRPr b="0" lang="en-US" sz="1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9b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к</a:t>
                      </a:r>
                      <a:endParaRPr b="0" lang="en-US" sz="1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9b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у</a:t>
                      </a:r>
                      <a:endParaRPr b="0" lang="en-US" sz="1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9b9ff"/>
                    </a:solidFill>
                  </a:tcPr>
                </a:tc>
              </a:tr>
              <a:tr h="205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</a:t>
                      </a:r>
                      <a:endParaRPr b="0" lang="en-US" sz="1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9b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</a:t>
                      </a:r>
                      <a:endParaRPr b="0" lang="en-US" sz="1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9b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</a:t>
                      </a:r>
                      <a:endParaRPr b="0" lang="en-US" sz="1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9b9ff"/>
                    </a:solidFill>
                  </a:tcPr>
                </a:tc>
              </a:tr>
            </a:tbl>
          </a:graphicData>
        </a:graphic>
      </p:graphicFrame>
      <p:sp>
        <p:nvSpPr>
          <p:cNvPr id="222" name="Text Box 76"/>
          <p:cNvSpPr/>
          <p:nvPr/>
        </p:nvSpPr>
        <p:spPr>
          <a:xfrm>
            <a:off x="5388120" y="589284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Курс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547640" y="1413000"/>
          <a:ext cx="6096240" cy="41148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205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</a:t>
                      </a:r>
                      <a:endParaRPr b="0" lang="en-US" sz="1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9b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</a:t>
                      </a:r>
                      <a:endParaRPr b="0" lang="en-US" sz="1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9b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endParaRPr b="0" lang="en-US" sz="1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9b9ff"/>
                    </a:solidFill>
                  </a:tcPr>
                </a:tc>
              </a:tr>
              <a:tr h="205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</a:t>
                      </a:r>
                      <a:endParaRPr b="0" lang="en-US" sz="1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9b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</a:t>
                      </a:r>
                      <a:endParaRPr b="0" lang="en-US" sz="1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9b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к</a:t>
                      </a:r>
                      <a:endParaRPr b="0" lang="en-US" sz="1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9b9ff"/>
                    </a:solidFill>
                  </a:tcPr>
                </a:tc>
              </a:tr>
            </a:tbl>
          </a:graphicData>
        </a:graphic>
      </p:graphicFrame>
      <p:sp>
        <p:nvSpPr>
          <p:cNvPr id="224" name="Text Box 91"/>
          <p:cNvSpPr/>
          <p:nvPr/>
        </p:nvSpPr>
        <p:spPr>
          <a:xfrm>
            <a:off x="5388120" y="589284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Скан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547640" y="1413000"/>
          <a:ext cx="6096240" cy="41148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205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</a:t>
                      </a:r>
                      <a:endParaRPr b="0" lang="en-US" sz="1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9b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</a:t>
                      </a:r>
                      <a:endParaRPr b="0" lang="en-US" sz="1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9b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</a:t>
                      </a:r>
                      <a:endParaRPr b="0" lang="en-US" sz="1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9b9ff"/>
                    </a:solidFill>
                  </a:tcPr>
                </a:tc>
              </a:tr>
              <a:tr h="205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</a:t>
                      </a:r>
                      <a:endParaRPr b="0" lang="en-US" sz="1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9b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</a:t>
                      </a:r>
                      <a:endParaRPr b="0" lang="en-US" sz="1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9b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</a:t>
                      </a:r>
                      <a:endParaRPr b="0" lang="en-US" sz="1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9b9ff"/>
                    </a:solidFill>
                  </a:tcPr>
                </a:tc>
              </a:tr>
            </a:tbl>
          </a:graphicData>
        </a:graphic>
      </p:graphicFrame>
      <p:sp>
        <p:nvSpPr>
          <p:cNvPr id="226" name="Text Box 106"/>
          <p:cNvSpPr/>
          <p:nvPr/>
        </p:nvSpPr>
        <p:spPr>
          <a:xfrm>
            <a:off x="5388120" y="589284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Серв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619280" y="1268280"/>
          <a:ext cx="6095880" cy="411480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  <a:gridCol w="1219320"/>
                <a:gridCol w="1218960"/>
              </a:tblGrid>
              <a:tr h="205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у</a:t>
                      </a:r>
                      <a:endParaRPr b="0" lang="en-US" sz="1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9b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</a:t>
                      </a:r>
                      <a:endParaRPr b="0" lang="en-US" sz="1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9b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endParaRPr b="0" lang="en-US" sz="1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9b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к</a:t>
                      </a:r>
                      <a:endParaRPr b="0" lang="en-US" sz="1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9b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л</a:t>
                      </a:r>
                      <a:endParaRPr b="0" lang="en-US" sz="1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9b9ff"/>
                    </a:solidFill>
                  </a:tcPr>
                </a:tc>
              </a:tr>
              <a:tr h="205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</a:t>
                      </a:r>
                      <a:endParaRPr b="0" lang="en-US" sz="1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9b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endParaRPr b="0" lang="en-US" sz="1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9b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</a:t>
                      </a:r>
                      <a:endParaRPr b="0" lang="en-US" sz="1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9b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</a:t>
                      </a:r>
                      <a:endParaRPr b="0" lang="en-US" sz="1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9b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endParaRPr b="0" lang="en-US" sz="1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9b9ff"/>
                    </a:solidFill>
                  </a:tcPr>
                </a:tc>
              </a:tr>
            </a:tbl>
          </a:graphicData>
        </a:graphic>
      </p:graphicFrame>
      <p:sp>
        <p:nvSpPr>
          <p:cNvPr id="228" name="Text Box 163"/>
          <p:cNvSpPr/>
          <p:nvPr/>
        </p:nvSpPr>
        <p:spPr>
          <a:xfrm>
            <a:off x="5292720" y="5805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Клавиату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547640" y="1413000"/>
          <a:ext cx="6096240" cy="411480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205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</a:t>
                      </a:r>
                      <a:endParaRPr b="0" lang="en-US" sz="1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9b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</a:t>
                      </a:r>
                      <a:endParaRPr b="0" lang="en-US" sz="1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9b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</a:t>
                      </a:r>
                      <a:endParaRPr b="0" lang="en-US" sz="1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9b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х</a:t>
                      </a:r>
                      <a:endParaRPr b="0" lang="en-US" sz="1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9b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endParaRPr b="0" lang="en-US" sz="1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9b9ff"/>
                    </a:solidFill>
                  </a:tcPr>
                </a:tc>
              </a:tr>
              <a:tr h="205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к</a:t>
                      </a:r>
                      <a:endParaRPr b="0" lang="en-US" sz="1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9b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</a:t>
                      </a:r>
                      <a:endParaRPr b="0" lang="en-US" sz="1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9b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</a:t>
                      </a:r>
                      <a:endParaRPr b="0" lang="en-US" sz="1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9b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</a:t>
                      </a:r>
                      <a:endParaRPr b="0" lang="en-US" sz="1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9b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</a:t>
                      </a:r>
                      <a:endParaRPr b="0" lang="en-US" sz="1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9b9ff"/>
                    </a:solidFill>
                  </a:tcPr>
                </a:tc>
              </a:tr>
            </a:tbl>
          </a:graphicData>
        </a:graphic>
      </p:graphicFrame>
      <p:sp>
        <p:nvSpPr>
          <p:cNvPr id="230" name="Text Box 184"/>
          <p:cNvSpPr/>
          <p:nvPr/>
        </p:nvSpPr>
        <p:spPr>
          <a:xfrm>
            <a:off x="5292720" y="5805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Микросхе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547640" y="1341360"/>
          <a:ext cx="6096240" cy="406404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203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</a:t>
                      </a:r>
                      <a:endParaRPr b="0" lang="en-US" sz="10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9b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ц</a:t>
                      </a:r>
                      <a:endParaRPr b="0" lang="en-US" sz="10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9b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</a:t>
                      </a:r>
                      <a:endParaRPr b="0" lang="en-US" sz="10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9b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</a:t>
                      </a:r>
                      <a:endParaRPr b="0" lang="en-US" sz="10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9b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</a:t>
                      </a:r>
                      <a:endParaRPr b="0" lang="en-US" sz="10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9b9ff"/>
                    </a:solidFill>
                  </a:tcPr>
                </a:tc>
              </a:tr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я</a:t>
                      </a:r>
                      <a:endParaRPr b="0" lang="en-US" sz="10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9b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endParaRPr b="0" lang="en-US" sz="10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9b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</a:t>
                      </a:r>
                      <a:endParaRPr b="0" lang="en-US" sz="10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9b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ф</a:t>
                      </a:r>
                      <a:endParaRPr b="0" lang="en-US" sz="10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9b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</a:t>
                      </a:r>
                      <a:endParaRPr b="0" lang="en-US" sz="10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9b9ff"/>
                    </a:solidFill>
                  </a:tcPr>
                </a:tc>
              </a:tr>
            </a:tbl>
          </a:graphicData>
        </a:graphic>
      </p:graphicFrame>
      <p:sp>
        <p:nvSpPr>
          <p:cNvPr id="232" name="Text Box 227"/>
          <p:cNvSpPr/>
          <p:nvPr/>
        </p:nvSpPr>
        <p:spPr>
          <a:xfrm>
            <a:off x="5364000" y="5805360"/>
            <a:ext cx="32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Информ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547640" y="1268280"/>
          <a:ext cx="6096240" cy="411480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205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л</a:t>
                      </a:r>
                      <a:endParaRPr b="0" lang="en-US" sz="1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9b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endParaRPr b="0" lang="en-US" sz="1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9b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</a:t>
                      </a:r>
                      <a:endParaRPr b="0" lang="en-US" sz="1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9b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</a:t>
                      </a:r>
                      <a:endParaRPr b="0" lang="en-US" sz="1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9b9ff"/>
                    </a:solidFill>
                  </a:tcPr>
                </a:tc>
              </a:tr>
              <a:tr h="205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г</a:t>
                      </a:r>
                      <a:endParaRPr b="0" lang="en-US" sz="1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9b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</a:t>
                      </a:r>
                      <a:endParaRPr b="0" lang="en-US" sz="1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9b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</a:t>
                      </a:r>
                      <a:endParaRPr b="0" lang="en-US" sz="1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9b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</a:t>
                      </a:r>
                      <a:endParaRPr b="0" lang="en-US" sz="1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9b9ff"/>
                    </a:solidFill>
                  </a:tcPr>
                </a:tc>
              </a:tr>
            </a:tbl>
          </a:graphicData>
        </a:graphic>
      </p:graphicFrame>
      <p:sp>
        <p:nvSpPr>
          <p:cNvPr id="234" name="Text Box 302"/>
          <p:cNvSpPr/>
          <p:nvPr/>
        </p:nvSpPr>
        <p:spPr>
          <a:xfrm>
            <a:off x="5076720" y="5805360"/>
            <a:ext cx="32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Алгорит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303" descr="11b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675640" y="6381720"/>
            <a:ext cx="285840" cy="28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5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34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8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57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1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80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4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03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7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WordArt 3"/>
          <p:cNvSpPr txBox="1"/>
          <p:nvPr/>
        </p:nvSpPr>
        <p:spPr>
          <a:xfrm>
            <a:off x="539640" y="1989000"/>
            <a:ext cx="8229600" cy="1143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33"/>
                </a:solidFill>
                <a:latin typeface="a_AlbionicTitulNrSh"/>
              </a:rPr>
              <a:t>Конкурс "Осторожно вирусы"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996633"/>
              </a:solidFill>
              <a:latin typeface="a_AlbionicTitulNrSh"/>
              <a:ea typeface="a_AlbionicTitulNrSh"/>
            </a:endParaRPr>
          </a:p>
        </p:txBody>
      </p:sp>
      <p:pic>
        <p:nvPicPr>
          <p:cNvPr id="237" name="Picture 6" descr="11b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675640" y="638172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wirus_kompPixmac000033989549"/>
          <p:cNvPicPr/>
          <p:nvPr/>
        </p:nvPicPr>
        <p:blipFill>
          <a:blip r:embed="rId3"/>
          <a:stretch/>
        </p:blipFill>
        <p:spPr>
          <a:xfrm>
            <a:off x="6732720" y="4365720"/>
            <a:ext cx="1439640" cy="11016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WordArt 4" descr=""/>
          <p:cNvPicPr/>
          <p:nvPr/>
        </p:nvPicPr>
        <p:blipFill>
          <a:blip r:embed="rId1"/>
          <a:stretch/>
        </p:blipFill>
        <p:spPr>
          <a:xfrm>
            <a:off x="317520" y="262080"/>
            <a:ext cx="8582040" cy="136512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5"/>
          <p:cNvSpPr/>
          <p:nvPr/>
        </p:nvSpPr>
        <p:spPr>
          <a:xfrm>
            <a:off x="1264680" y="2205720"/>
            <a:ext cx="6737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кромный серый колобок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Длинный тонкий проводок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Ну а на коробке 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Две или три кнопк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В зоопарке есть зайчишка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У компьютера есть .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5580000" y="59500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 Ы Ш К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4"/>
          <p:cNvSpPr/>
          <p:nvPr/>
        </p:nvSpPr>
        <p:spPr>
          <a:xfrm>
            <a:off x="1403280" y="645840"/>
            <a:ext cx="64515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А теперь, друзья, загадка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Что такое: рукоятка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Кнопки две, курок и хвостик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Ну конечно, это ...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6082560" y="5157720"/>
            <a:ext cx="25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 Ж О Й С Т И 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4"/>
          <p:cNvSpPr/>
          <p:nvPr/>
        </p:nvSpPr>
        <p:spPr>
          <a:xfrm>
            <a:off x="1546200" y="906840"/>
            <a:ext cx="61592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ловно смелый капитан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 на нем - горит экра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Яркой радугой он дыши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 на нем компьютер пиш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 рисует без запин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севозможные картин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аверху машины вс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азмещается 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5506920" y="5255280"/>
            <a:ext cx="237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 И С П Л Е 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752400" y="1045800"/>
            <a:ext cx="76471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Около дисплея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главный блок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Там бежит электрото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К самым важным микросхемам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Этот блок зовут ...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5938560" y="4940280"/>
            <a:ext cx="293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 И С Т Е М Н Ы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4"/>
          <p:cNvSpPr/>
          <p:nvPr/>
        </p:nvSpPr>
        <p:spPr>
          <a:xfrm>
            <a:off x="852480" y="910800"/>
            <a:ext cx="7488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о клавиша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рыг да скок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Бе-ре-ги но-го-ток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Раз-два и готово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Отстукали слово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Вот где пальцам физкульту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Это вот - ..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5578560" y="4941720"/>
            <a:ext cx="31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 Л А В И А Т У Р 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4"/>
          <p:cNvSpPr/>
          <p:nvPr/>
        </p:nvSpPr>
        <p:spPr>
          <a:xfrm>
            <a:off x="917640" y="1644120"/>
            <a:ext cx="7316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В ней записаны програм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И для мамы, и для папы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В упаковке, как конфет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Быстро вертится ..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6541200" y="4761000"/>
            <a:ext cx="22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 И С К Е Т 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7T12:52:08Z</dcterms:created>
  <dc:creator>user</dc:creator>
  <dc:description/>
  <dc:language>en-US</dc:language>
  <cp:lastModifiedBy>Пользователь Windows</cp:lastModifiedBy>
  <dcterms:modified xsi:type="dcterms:W3CDTF">2023-03-15T16:49:39Z</dcterms:modified>
  <cp:revision>42</cp:revision>
  <dc:subject/>
  <dc:title>Слайд 1</dc:title>
</cp:coreProperties>
</file>